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5B80-EF96-4D22-8984-C1B0BF543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D419E-2090-42B9-B7D1-90B0DDFEE4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440A5-81B8-4CA2-8C5D-DA01F2738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6973-02B3-4D65-89A1-D0783F6A2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CB476-9169-4D79-B6E6-E9EE908B1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0D6E1-42A1-4E75-80E3-DDE245BC75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81CC2-7607-4D0B-8A54-E82EBA0C16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42CEE-6DB4-4804-95F1-4869BDDC9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27D52-83CE-4109-9BB0-CEE8F3B17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02AD9-1CA4-45A9-8739-81F6B25B8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4F58D-ED53-4F2D-A1DB-B377DF9C7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33E8-835C-416D-987C-587FA272F5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731A-6E0F-42AE-9E79-6371FEAE746C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227320"/>
            <a:ext cx="86040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Control – We Have a Problem…E-Notification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aig Farney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35680" y="3479760"/>
            <a:ext cx="20257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71680" y="11808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ndition Code i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rading Partner not found, set code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nvalid Data, set code 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x, set code t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Translator-Generated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ap Not Found, bypass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issing Mandatory Element, continue and Log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ndition Code &lt; 4, Successful Translat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ondition Code &gt; x, perform or do not perform 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o Process Log during eac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0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3360" y="11664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s reach of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 about it w/o having to look at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have to be a programmer to find out what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upply more detailed and customized content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xpanded to deliver other informa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s,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7040" y="11664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ication Techniq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rocesses that are dedicated to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= x, execute notification process 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&lt; y, execute notification process 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before or after certain process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Translation step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on completion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can be used to generate content of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process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97 Reports / Late No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ogate DI PRTFILE for Translation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567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61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5440" y="11361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e / operator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t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Line Application to view Process Not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67960" y="1776240"/>
            <a:ext cx="7193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Error Mess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non-zero return code has been issued by job E4JLB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review each non-zero job step to determine if this is jus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ning or an actual err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776240"/>
            <a:ext cx="8643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Status Re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llowing are the summary totals and dollars by trading part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tner Name             Total Invoices   Total         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NK OF AMERIC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6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$205,620.44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AL MOTORS                1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$152.25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135,077.27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ACCEP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4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340,849.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REJEC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                $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4800" y="1776240"/>
            <a:ext cx="8126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997 Late No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TENTION: GENERAL MO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r records indicate the following Functional Acknowledgements (FA997s) have not been received for the invoice (811) transa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you have not retrieved your invoices within the last 7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ease do so.  Should you be experiencing any problems, p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act us.  We will be happy to assist y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Invoices sent on May 22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A/GS CONTROL NUMBERS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NO INVOICES SENT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UNICATIONS METHOD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NTH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y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6960" y="1319040"/>
            <a:ext cx="79884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160" y="1288800"/>
            <a:ext cx="824724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JCL for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4440" y="1669680"/>
            <a:ext cx="74851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EMCNTL-REC.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KEY.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ID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SEQ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9(9).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EMAIL-ADDRES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THE-REST-GEN.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PARTNER-NAME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ISA-ID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15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BILLING-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4).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PORT-NAME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FILLER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light Control We Have a Problem...E-Notificat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2157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why to explore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s and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4800" y="1287000"/>
            <a:ext cx="81108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ding Partner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TPCNTRL-R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TPCNTRL-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COMM-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CD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CD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DIRECT-CONNECT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DI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EMAIL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EML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FTP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FTP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VAN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VAN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PTNR-EMAIL-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END-FILE-READY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997-LATE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TAT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A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IN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INACTIVATE-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2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1062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human interven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reduc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can be addressed before someone gets around to looking a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data more quickly and comply with Service Level Agre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1200" y="1150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invalid or incomplete data to a ‘recycle’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containing details of what was recycled and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‘recycle’ file during normal process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ata has been corrected it will be processed next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when ‘recycle’ file has been successfully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Email and Trading Partner Contro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cycle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processing for JUL03 had rejected transactions do to incomplete FTP Set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ollowing FTP files were placed on h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-run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reprocessing job E4JEFTPS released the following files from FTP hold and distributed them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hallenges and Opportunit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line between too much, and too little informati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want an Email System that also does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levels of d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communications vs. External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3720" y="16257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 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asons Why to Explore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 better way to be notified of Production Job / Process Failures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be proactive in reacting to minor failur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manual process controls and audits that could be automated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isparate / Multip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deliver information to many people - some may not have access to cor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 (S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enefits of E-Notif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active instead of re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ingle interface for problem determination /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time needed to solve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istorical audit of system / proc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tag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2920" y="1463760"/>
            <a:ext cx="200628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 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83000" y="1447920"/>
            <a:ext cx="189540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60920" y="1447920"/>
            <a:ext cx="19508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38840" y="1447920"/>
            <a:ext cx="20066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mated re-run and corr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1967040"/>
            <a:ext cx="4253040" cy="606240"/>
          </a:xfrm>
          <a:custGeom>
            <a:avLst/>
            <a:gdLst>
              <a:gd name="textAreaLeft" fmla="*/ 664560 w 4253040"/>
              <a:gd name="textAreaRight" fmla="*/ 3721680 w 4253040"/>
              <a:gd name="textAreaTop" fmla="*/ 151560 h 606240"/>
              <a:gd name="textAreaBottom" fmla="*/ 454680 h 606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ahoma"/>
              </a:rPr>
              <a:t>Volume / Complex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760" y="56160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Information about each step execu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r Single Process Lo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run statistics / performanc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 process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s warnings or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Historical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704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Cont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Name/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proc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 / 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or Outp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RTFILE / FFSEX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97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4320" y="1166760"/>
            <a:ext cx="889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************************************************************************************************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START DT: 07/23/03  START TM: 11:06:04 JOB: E4JFARXS (TEST&amp;PROD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APPED RECORDS REA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33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 RECORDS DROPP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000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HANGES PROCESS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026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PED RECORDS WRITTEN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9290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 END  DT: 07/23/03  END  TM: 11:06:06  RECS PROC:      1337  RETN CODE: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process flow by using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/ bypass step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s basic O/S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written to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2:11Z</dcterms:modified>
  <cp:revision>959</cp:revision>
  <dc:subject/>
  <dc:title>IBM Software Group</dc:title>
</cp:coreProperties>
</file>