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0660-C77D-4951-859C-8797B9933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E479-2465-448A-9EE1-F7FB70CAE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4C856-2305-4564-B1ED-1D4AA0E78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AFA81-26A5-453C-A158-596C08CE9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F7EC1-2F8F-4EF6-B5EC-D72FCE4A9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CB083-5DCD-4372-BBC0-BC7602C75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C57A9-52D7-41AA-8B7A-21FFB483B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4922-787A-417E-851A-494DF193C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5580-CD40-44D5-A98A-9B3BAE863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FF61-33EC-44D1-ABEA-5D3E2BFD5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0FAA-C7B7-4D35-BDF5-3EFF18BCB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2F2D-4020-498F-AE5D-4DA9F9B2E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13FE-9103-4F79-9B9F-C83BFFDA2AB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2728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Messaging Solutions </a:t>
            </a:r>
            <a:br>
              <a:rPr sz="2400"/>
            </a:br>
            <a:br>
              <a:rPr sz="1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d Blankenship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eau of Customs and Border Protec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diosyncra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pecial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utomated Re-Sen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articip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rtification and Testing Req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 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utage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P Automated Re-Se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elp Desk /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Implementation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stablish Grou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Grou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Ver/release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lim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ssion Siz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ntax Complianc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ta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pplication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Design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ackup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and Synch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ng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ogging 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overy / Restart / Re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as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030400" y="2563560"/>
            <a:ext cx="44704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stom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14480" y="13410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a Typical Day 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.S. Customs Service examin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.3 Million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0,000 Trucks/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48,000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00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600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ffects the following enforcement 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5 Ar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8 Narcotics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28 Other Seizures (Conveyances, Ammunition, Commercial Merchandise, Real Estate, Firearms and Weapons, Child Porn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 Currency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89fb"/>
                </a:solidFill>
                <a:latin typeface="Arial"/>
              </a:rPr>
              <a:t>A Day in the Life of Customs</a:t>
            </a: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1370160"/>
            <a:ext cx="22464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Environment - Trade,  Enforcement, ED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- 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MQ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/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xed -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149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149640"/>
            <a:ext cx="1371600" cy="1295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1800" y="1346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880" y="18795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38760" y="1320840"/>
            <a:ext cx="1447920" cy="1447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4826160"/>
            <a:ext cx="1447920" cy="1218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6068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064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521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600" y="25653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2511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654280" y="1905120"/>
            <a:ext cx="411408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25480" y="4141440"/>
            <a:ext cx="928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3003480"/>
            <a:ext cx="1106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1480" y="2446200"/>
            <a:ext cx="1360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1925640"/>
            <a:ext cx="151272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5880" y="498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687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538488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Server Fa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s Intern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5160" y="30733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4880" y="124452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1981080"/>
            <a:ext cx="239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MVS OS390 zOS Enterprise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880" y="3962520"/>
            <a:ext cx="1371600" cy="7617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A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7360" y="3597120"/>
            <a:ext cx="94140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 CICS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ces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-Plex -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-Datac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65440" y="51735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5440" y="409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027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2214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Communic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63760" y="4686480"/>
            <a:ext cx="243864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714680"/>
            <a:ext cx="2210040" cy="3881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5640" y="3695760"/>
            <a:ext cx="243828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- 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3760" y="2705040"/>
            <a:ext cx="243864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1714680"/>
            <a:ext cx="243828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38360"/>
            <a:ext cx="2209680" cy="3933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-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Messaging Solu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0240" y="1649160"/>
            <a:ext cx="5276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is g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do it at 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Q Series -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essaging Solution - Internal/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Independence /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Transl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MQ Frame Relay Topograph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1480" y="2913120"/>
            <a:ext cx="1857240" cy="1895040"/>
            <a:chOff x="2211480" y="2913120"/>
            <a:chExt cx="1857240" cy="1895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211480" y="2913120"/>
              <a:ext cx="18572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33000" y="3258360"/>
              <a:ext cx="18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614680" y="3205080"/>
            <a:ext cx="93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pr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1496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3208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447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73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7280" y="238716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2163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6272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8828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52760" y="4027320"/>
            <a:ext cx="53172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3524400"/>
            <a:ext cx="48276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41720" y="37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20120" y="4063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391520" y="246384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0" y="41688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01920"/>
            <a:ext cx="72576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6360" y="5019840"/>
            <a:ext cx="1371600" cy="9903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2760" y="4500360"/>
            <a:ext cx="27324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Two CICS EDI Translatio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 - E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Host MV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“HOT” DI Shop Sinc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37000" y="1806480"/>
            <a:ext cx="693720" cy="1981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(EDI Server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3320" y="1801800"/>
            <a:ext cx="2274840" cy="16606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5400" y="1749600"/>
            <a:ext cx="17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1240" y="3022560"/>
            <a:ext cx="2244600" cy="83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4400" y="2332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9320" y="1812960"/>
            <a:ext cx="693720" cy="1952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3440" y="235584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Ap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71304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96080" y="518004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3240" y="445140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05000" y="395136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920" y="528948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61952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1320" y="5303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040" y="226368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080" y="4863960"/>
            <a:ext cx="1074600" cy="1111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20800" y="3236760"/>
            <a:ext cx="144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8440" y="258120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26049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62560" y="3282840"/>
            <a:ext cx="10670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5800" y="3435480"/>
            <a:ext cx="3160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103960" y="3146400"/>
            <a:ext cx="1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30280" y="3110040"/>
            <a:ext cx="180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87960" y="194616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8400" y="2846520"/>
            <a:ext cx="16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844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Typical Application Interfac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1952640"/>
            <a:ext cx="18525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03360" y="2752560"/>
            <a:ext cx="174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7960" y="1946160"/>
            <a:ext cx="118404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0080" y="291924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50040" y="1944720"/>
            <a:ext cx="65556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Export Syste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8640" y="192708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520" y="195120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9680" y="3189240"/>
            <a:ext cx="534960" cy="306360"/>
            <a:chOff x="5719680" y="3189240"/>
            <a:chExt cx="534960" cy="306360"/>
          </a:xfrm>
        </p:grpSpPr>
        <p:sp>
          <p:nvSpPr>
            <p:cNvPr id="310" name=""/>
            <p:cNvSpPr/>
            <p:nvPr/>
          </p:nvSpPr>
          <p:spPr>
            <a:xfrm>
              <a:off x="5719680" y="31892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7520" y="344304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97520" y="339228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97520" y="334152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97520" y="329076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705640" y="4059360"/>
            <a:ext cx="534960" cy="306360"/>
            <a:chOff x="5705640" y="4059360"/>
            <a:chExt cx="534960" cy="306360"/>
          </a:xfrm>
        </p:grpSpPr>
        <p:sp>
          <p:nvSpPr>
            <p:cNvPr id="316" name=""/>
            <p:cNvSpPr/>
            <p:nvPr/>
          </p:nvSpPr>
          <p:spPr>
            <a:xfrm>
              <a:off x="5705640" y="40593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480" y="43131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83480" y="42624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3480" y="42116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3480" y="41608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40560" y="4946760"/>
            <a:ext cx="534960" cy="306360"/>
            <a:chOff x="5740560" y="4946760"/>
            <a:chExt cx="534960" cy="306360"/>
          </a:xfrm>
        </p:grpSpPr>
        <p:sp>
          <p:nvSpPr>
            <p:cNvPr id="322" name=""/>
            <p:cNvSpPr/>
            <p:nvPr/>
          </p:nvSpPr>
          <p:spPr>
            <a:xfrm>
              <a:off x="5740560" y="49467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18400" y="52005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8400" y="51498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18400" y="50990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8400" y="50482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07040" y="316080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Raw EDI Image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7360" y="39387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Application Data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200" y="497376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Warning Messages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1920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1920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0480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9544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952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AMS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571760"/>
            <a:ext cx="5257800" cy="4495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5610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Mainfra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952640"/>
            <a:ext cx="41907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824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824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824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3824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2880" y="1952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Manifest System Ap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4240" y="3009960"/>
            <a:ext cx="693720" cy="250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1200" y="3011400"/>
            <a:ext cx="1401480" cy="2514600"/>
            <a:chOff x="6091200" y="3011400"/>
            <a:chExt cx="1401480" cy="2514600"/>
          </a:xfrm>
        </p:grpSpPr>
        <p:sp>
          <p:nvSpPr>
            <p:cNvPr id="347" name=""/>
            <p:cNvSpPr/>
            <p:nvPr/>
          </p:nvSpPr>
          <p:spPr>
            <a:xfrm>
              <a:off x="6091200" y="3011400"/>
              <a:ext cx="1401480" cy="251460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50000">
                  <a:srgbClr val="66ffff"/>
                </a:gs>
                <a:gs pos="100000">
                  <a:srgbClr val="7889fb"/>
                </a:gs>
              </a:gsLst>
              <a:lin ang="5400000"/>
            </a:gradFill>
            <a:ln w="1260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1200" y="3620880"/>
              <a:ext cx="131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EDI Transl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Gatew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493040" y="3003480"/>
            <a:ext cx="693720" cy="2500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worthy 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Translation and Appl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CIC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&amp; Post Translate Images Available to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ed Copies of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hru MQMD-Ms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nds &amp; “Hot Stuff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s Modernization e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56720" y="2131920"/>
            <a:ext cx="73486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umés 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4480" y="1527120"/>
            <a:ext cx="7348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EDI Gateway Architecture - EDI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Platforms &amp; Trigger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 (DI)  Software &amp;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&amp; EDIFACT Standard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/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ding Partner Enab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Frame Rela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erver -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(MQ Frame Relay, SNA, Dial, VA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 / Re-Engineer / Tune   EDI Process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ubleshoot Messaging Problems (Internal/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to X12  (XML Design eff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ustoms IG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pp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3760" y="2359080"/>
            <a:ext cx="4475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7280" y="3162240"/>
            <a:ext cx="1303200" cy="2165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84920" y="3357720"/>
            <a:ext cx="1303200" cy="21222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2374920"/>
            <a:ext cx="161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4221000"/>
            <a:ext cx="636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4080" y="4673520"/>
            <a:ext cx="636840" cy="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nother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1492200"/>
            <a:ext cx="1612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4080" y="2359080"/>
            <a:ext cx="5051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2640" y="3170160"/>
            <a:ext cx="1303200" cy="21225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7720" y="4659480"/>
            <a:ext cx="1617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4280" y="4375080"/>
            <a:ext cx="1303200" cy="1430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2920" y="4221000"/>
            <a:ext cx="8812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ow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it takes to build a Bulletproof Real-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240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ze &amp;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stem Criti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 /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/ 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C - Development thru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-based vs. One-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et(s)  /  Version Releases / DM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iz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yntax Compli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Error 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Acknowled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rading Partn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Authentication -  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5:56Z</dcterms:modified>
  <cp:revision>895</cp:revision>
  <dc:subject/>
  <dc:title>IBM Software Group</dc:title>
</cp:coreProperties>
</file>