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D46916F-C6A4-4009-AB88-A5DC0FE1A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4751CE8-08AC-4853-A6AD-A43484BA4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E93C2A-C3CC-4A26-90F2-5EE082CDE7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E9C3C5-688E-4F0C-BC36-8D643C898E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8A86E3-A8F0-40D7-BD2B-99538FE237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4A1D52-9D49-46CF-ABD4-3979A59A17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60720B4C-DCF1-4135-B179-DA2BCFFA9D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DE7B3-1651-4896-B18F-FBEB96666E2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536168-8A4A-4953-AC8D-64004EEB6EA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6BC1D1E5-B6D5-4356-8E0B-6A88B8790E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6713197A-673E-4C90-B6A9-34CAC956CD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2C4B9F-611D-40BF-833D-592EA8C6EF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5A3865-AAEB-4C32-A3B1-697E19E174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AE83A9-7A86-45BD-B589-DB693FC586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8366-0BB8-4B93-87EE-C8DF21D37FA1}"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triangle"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triangle"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triangle"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triangle"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triangle"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triangle"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triangle"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triangle"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triangle"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triangle"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triangle"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triangle"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triangle"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triangle"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triangle"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triangle"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triangle"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triangle"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triangle"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triangle"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triangle"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triangle"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triangle"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triangle"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triangle"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triangle"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triangle"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