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A9A1587-370D-408F-94DF-87D98459E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o implement EDI using CrossWorlds TPI/EDI DH but it was cumbersome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ansaction logging from the package (though TPI will log the raw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997 generation for inbound messages. Must code thi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 DH is not EDI specification aware. Must build the structure of the messages, the business objects, using Spec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lidation of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BOs, one for each segment. Lots of Maps one for each segment. A very cluttered ICS. Makes managemen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work of the EDI Protocol collab is now done (much better) in the WDI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2 running on the WB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3 running on the WD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naming convention is from the perspective of WDI. So EDI_IN is EDI message inbound to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6AC6-3E07-4EF7-B9AC-C8DE17BC7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61CD-5EFB-404D-B460-ED61E96D0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0569-EB97-4208-BBC0-BF7D9D44F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CA202-3926-4B6C-AA97-234B1CACE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6451-61DD-478A-A90B-E5DF86A6D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2C8F-BF11-4FB9-A986-8B8A40A00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F73D-048D-471C-9194-540CF9E68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E1078-258C-4142-B679-183C3AC50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9D16-67C1-4D84-9064-1349A8BDB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3BEB-FC7E-413E-96F7-7FC5C204A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F129-642F-4142-94BE-37CDD950B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DF39-3644-4D10-BFB1-08C2D5555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se Study: Implementing WDI with WBI at Quantu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D999-3096-469F-ABA6-6440CBFCB82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7360" y="20840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Integrating WDI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BI at 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 Lut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al Ren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1132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Hardwa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evelopment, Stage and Produc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Production and Stage environ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vironment is a Verita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un E4500 nodes in each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de has 8 processors, 4 gigabytes of physic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Developmen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un E4500 with 4 processors and 4 gigabytes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Production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paq DL360s with 1.2 Ghz processor and 1 gigabyte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Development and Stage environments share the same hardware a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Softwa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erver – WDI 3.2 SP6 for Windows 2000, standard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erver – ICS 4.1.0.2 using Oracle 8.1.7 for repository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– Version 5.2 on the WBI side and 5.3 on the WD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Application Integration – Various WBI ada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Oracle Applications, Vantive, Clarify,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VAN Integration – Custom Perl scripts to encrypt/decrypt messages  and transfer them to/from th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used because of the need to route messages between legacy applications, TPI, and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61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and logging reception of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ng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/sending Functional Acknowle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EDI messages to XM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BO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XML GBO’s to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/logg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receipt of Functional Acknowledgement i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Separate EDI concerns from Business Process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B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received data, possibly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-in or modify data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XML GBO’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ication-specif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SBO’s) and update back-e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 EDI data to human-readable form for notification or archi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triggering events, create ASB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SBO’s to XML GBO’s fo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data in GBO’s, filling-in or modifying as needed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82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3120" y="19303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0920" y="197316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2560" y="203364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78840" y="24829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84840" y="3506760"/>
            <a:ext cx="1811160" cy="914400"/>
            <a:chOff x="6684840" y="3506760"/>
            <a:chExt cx="1811160" cy="914400"/>
          </a:xfrm>
        </p:grpSpPr>
        <p:sp>
          <p:nvSpPr>
            <p:cNvPr id="303" name=""/>
            <p:cNvSpPr/>
            <p:nvPr/>
          </p:nvSpPr>
          <p:spPr>
            <a:xfrm>
              <a:off x="6684840" y="350676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2720" y="3517920"/>
              <a:ext cx="86328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48160" y="2776680"/>
            <a:ext cx="863640" cy="1996560"/>
            <a:chOff x="5348160" y="2776680"/>
            <a:chExt cx="863640" cy="1996560"/>
          </a:xfrm>
        </p:grpSpPr>
        <p:sp>
          <p:nvSpPr>
            <p:cNvPr id="306" name=""/>
            <p:cNvSpPr/>
            <p:nvPr/>
          </p:nvSpPr>
          <p:spPr>
            <a:xfrm>
              <a:off x="5348160" y="387000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8160" y="2776680"/>
              <a:ext cx="863640" cy="90288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395520" y="2801880"/>
            <a:ext cx="1352520" cy="2049480"/>
            <a:chOff x="3395520" y="2801880"/>
            <a:chExt cx="1352520" cy="2049480"/>
          </a:xfrm>
        </p:grpSpPr>
        <p:sp>
          <p:nvSpPr>
            <p:cNvPr id="309" name=""/>
            <p:cNvSpPr/>
            <p:nvPr/>
          </p:nvSpPr>
          <p:spPr>
            <a:xfrm>
              <a:off x="3884400" y="394812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5520" y="28018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41320" y="3032280"/>
            <a:ext cx="2643120" cy="1938240"/>
            <a:chOff x="841320" y="3032280"/>
            <a:chExt cx="2643120" cy="1938240"/>
          </a:xfrm>
        </p:grpSpPr>
        <p:sp>
          <p:nvSpPr>
            <p:cNvPr id="312" name=""/>
            <p:cNvSpPr/>
            <p:nvPr/>
          </p:nvSpPr>
          <p:spPr>
            <a:xfrm>
              <a:off x="841320" y="3032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067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downloads EDI messages from VAN and sends them to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maps EDI to XML GBO (Generic Business Objec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sends GBO to WBI via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MQSeries adaptor picks up GBO and sends to subscribing collaborations (executable business processes)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map GBO to appropriate ASBO (Application-Specific Business 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send ASBO to destinat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317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7432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5146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8098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4956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39481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40672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aptor detects triggering event, possibly via a bridge, and creates an ASBO from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 maps ASBO to GBO and sends to subscribing collaborations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, i.e. WDI MQSeries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picks up GBO, maps it to EDI, and queues it for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 picks up EDI message and sends it to the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- Iterativ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requirements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Guidelines for involved messages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&amp; 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ossWorlds Integration Architecture Dia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AD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and CIAD reviewed, revised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data requirements ver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o We Are and What We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leader in data protection products and services, and the world's largest supplier of computer tape d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include HP, Dell, Hitachi Data Systems, IBM, and Sun Micro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30 domestic and 35 international 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Lutze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.lutze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Hal Render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l.render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 the eBusiness group at Quantum and have two d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2B) integration, primarily using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457200"/>
          <a:ext cx="899964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99964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(including XML Document Type Definition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ata translation script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and WBI maps and End-to-End Mapping Document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collaboration templates and collaboration object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adaptors created/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dges, maps, collaborations, and adaptors unit-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eptance Testing (U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/WDI code deployed to produc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onfiguration of bridges, adaptors, and collaboration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mponents activated and supporting job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 adaptors flag connection or data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BI ICS flags proces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monitor system logs and some syste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VAN monitors problems with EDI messages 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and WBI components generate notification emails to Quantum EDI Administrators when they detect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suspends processing failures in the ICS as “failed flow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ministrator troubleshoots the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tools allow WBI administrators to browse failed flows, read errors messages, look at the state of in-process business objects, make code changes, and restart or discard the failed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are usually corrected and the affected flows are re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asionally flows are discarded and the messages are corrected and resubmitted from the sour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system has pros and c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good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existing work when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Message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Languages (Java, XML, Pe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Artifacts (Processes, Componen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new artifacts to extend or fill gaps in exi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Application bridges, Formatted Dat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I to th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single gateway to the outsid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general XML Gateway to ou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enterprise application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RosettaNet or other standard XML B2B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inter-enterpris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Quantum EDI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users/customers with intranet/extranet access to EDI system status and transac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5346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: Chose CrossWorlds Software for EAI and B2B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RosettaNet pilots involving WebMethods, Viacore, and later Cyclone Commerce to connect directly to 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initial production EAI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2: Migration of EDI legacy infrastructure to Cross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ed corporate EDI responsibilities, and found that our legacy EDI translator (AMTrix) was end-of-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lt CrossWorlds with i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ding Partner Inter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PI) and EDI Data-handler components looked promising for EDI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CrossWorlds to implement EDI 850, 820, 823, 810 and other EAI and B2B implementations, including support for major ERP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d various issues, and came to the conclusion that CrossWorlds by itself is not an ideal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AI – Hub and Spoke Architectu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49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53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96680" y="1865880"/>
            <a:ext cx="2233080" cy="1624320"/>
            <a:chOff x="1696680" y="1865880"/>
            <a:chExt cx="2233080" cy="1624320"/>
          </a:xfrm>
        </p:grpSpPr>
        <p:sp>
          <p:nvSpPr>
            <p:cNvPr id="157" name=""/>
            <p:cNvSpPr/>
            <p:nvPr/>
          </p:nvSpPr>
          <p:spPr>
            <a:xfrm rot="17983200">
              <a:off x="2252520" y="2309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83200">
              <a:off x="1888920" y="198756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983200">
              <a:off x="3177360" y="2562120"/>
              <a:ext cx="430920" cy="990720"/>
            </a:xfrm>
            <a:prstGeom prst="upDownArrow">
              <a:avLst>
                <a:gd name="adj1" fmla="val 50000"/>
                <a:gd name="adj2" fmla="val 45769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61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65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69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ossWorlds with TPI and EDI Data Handler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75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79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86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90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94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43828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5909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99036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-3:  WDI to the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purchased CrossWorlds and renamed prod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bSphere Business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BI). IBM postponed enhancements to TPI and EDI data-handler components.  We learned of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outsourced its manufacturing, which required us to implement many new EDI transactions quickly – enter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 1-week trial to prove that we could get WDI running in our environment and have it communicate with WBI.  Mostly this involved installing the software and configuring MQSe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nother 1-week trial to expand on prior work and demonstrate functionality of WDI.  Did 1 inbound and 1 outbound EDI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 a 1-Week onsite training/mentoring session with WDI consul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&amp; deployed 7 new EDI transactions in 6 weeks using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DI and WBI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207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211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218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222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226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74320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76720"/>
            <a:ext cx="99072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743200"/>
            <a:ext cx="3333600" cy="609480"/>
          </a:xfrm>
          <a:prstGeom prst="leftRightArrow">
            <a:avLst>
              <a:gd name="adj1" fmla="val 50000"/>
              <a:gd name="adj2" fmla="val 10888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mainfrm"/>
          <p:cNvSpPr/>
          <p:nvPr/>
        </p:nvSpPr>
        <p:spPr>
          <a:xfrm>
            <a:off x="1628640" y="1552680"/>
            <a:ext cx="1605240" cy="1179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mainfrm"/>
          <p:cNvSpPr/>
          <p:nvPr/>
        </p:nvSpPr>
        <p:spPr>
          <a:xfrm>
            <a:off x="1628640" y="4232160"/>
            <a:ext cx="1605240" cy="117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89160" y="3048120"/>
            <a:ext cx="554040" cy="1145880"/>
          </a:xfrm>
          <a:prstGeom prst="upDownArrow">
            <a:avLst>
              <a:gd name="adj1" fmla="val 50000"/>
              <a:gd name="adj2" fmla="val 41173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10666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BI (CrossWorlds) Serve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800" y="17524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040" y="44956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si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48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10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33000" y="1752480"/>
            <a:ext cx="1954800" cy="2882880"/>
            <a:chOff x="6633000" y="1752480"/>
            <a:chExt cx="1954800" cy="2882880"/>
          </a:xfrm>
        </p:grpSpPr>
        <p:sp>
          <p:nvSpPr>
            <p:cNvPr id="243" name="tower"/>
            <p:cNvSpPr/>
            <p:nvPr/>
          </p:nvSpPr>
          <p:spPr>
            <a:xfrm>
              <a:off x="7086600" y="2286000"/>
              <a:ext cx="904680" cy="1809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7520" y="17524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3000" y="4267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q ProLi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MQ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590920"/>
            <a:ext cx="3943080" cy="485640"/>
          </a:xfrm>
          <a:prstGeom prst="leftRightArrow">
            <a:avLst>
              <a:gd name="adj1" fmla="val 50000"/>
              <a:gd name="adj2" fmla="val 16163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5560" y="1143000"/>
            <a:ext cx="2575080" cy="4667400"/>
            <a:chOff x="385560" y="1143000"/>
            <a:chExt cx="2575080" cy="4667400"/>
          </a:xfrm>
        </p:grpSpPr>
        <p:sp>
          <p:nvSpPr>
            <p:cNvPr id="249" name="mainfrm"/>
            <p:cNvSpPr/>
            <p:nvPr/>
          </p:nvSpPr>
          <p:spPr>
            <a:xfrm>
              <a:off x="826920" y="1655640"/>
              <a:ext cx="1604880" cy="117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080" y="11430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BI Server Clu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560" y="2973240"/>
              <a:ext cx="257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wprod.queue.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30840" y="990720"/>
            <a:ext cx="2035440" cy="4820040"/>
            <a:chOff x="6630840" y="990720"/>
            <a:chExt cx="2035440" cy="4820040"/>
          </a:xfrm>
        </p:grpSpPr>
        <p:sp>
          <p:nvSpPr>
            <p:cNvPr id="253" name="tower"/>
            <p:cNvSpPr/>
            <p:nvPr/>
          </p:nvSpPr>
          <p:spPr>
            <a:xfrm>
              <a:off x="7086600" y="1447920"/>
              <a:ext cx="904680" cy="1415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6480" y="99072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0840" y="2973600"/>
              <a:ext cx="2035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M_wdi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Hal Render, Mark Lutze</dc:creator>
  <dc:description/>
  <dc:language>en-US</dc:language>
  <cp:lastModifiedBy>IBM_USER</cp:lastModifiedBy>
  <dcterms:modified xsi:type="dcterms:W3CDTF">2003-09-17T17:43:24Z</dcterms:modified>
  <cp:revision>944</cp:revision>
  <dc:subject/>
  <dc:title>Case Study: WDI/WBI at Quantum</dc:title>
</cp:coreProperties>
</file>