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70D32-18E7-4CCB-8DE3-BC91780707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3E4DB-01CF-4B18-A502-F5D8426CD1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1C83C-E027-4790-8AEC-572C200476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BD763-6A6D-4DD7-8C75-36DA2DE412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E7CE7-08EF-4115-B643-2479A5D2C5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77BC1-83B8-4A35-B4AF-949F634160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01AF0-841A-4943-87A7-6C3F97D35E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FE1CA-FF62-4288-80F6-319E6269E0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88C3C-762F-465C-BA17-77BC8D8258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CDCB2-7C13-477E-BEE3-CF0F370977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8727B-986D-447A-AA80-339E30611C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18349-656F-4DB5-93AE-D5BD49B5A6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75ED-6C36-461D-B888-E09FC624DF3C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fritzf@us.ibm.com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fritzf@us.ibm.com" TargetMode="External"/><Relationship Id="rId2" Type="http://schemas.openxmlformats.org/officeDocument/2006/relationships/hyperlink" Target="mailto:emd19@us.ibm.com" TargetMode="External"/><Relationship Id="rId3" Type="http://schemas.openxmlformats.org/officeDocument/2006/relationships/hyperlink" Target="http://www.ibm.com/websphere/datainterchange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DI XML Consid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itz Fahren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TD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03160" y="1541520"/>
            <a:ext cx="633744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?xml encoding="ISO-8859-1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personnel (person)+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person (name,email*,url*,link?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person id ID #REQUIR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family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given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name (#PCDATA|family|given)*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email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url EMP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url href CDATA #REQUIR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link EMP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 IDREF #IM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ordinates IDREFS #IMPLI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2438280"/>
            <a:ext cx="12193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66880" y="2743200"/>
            <a:ext cx="2133720" cy="228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3200400"/>
            <a:ext cx="10670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3657600"/>
            <a:ext cx="213336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4419720"/>
            <a:ext cx="99036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87560" y="2049480"/>
            <a:ext cx="1272960" cy="2649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28840" y="2314440"/>
            <a:ext cx="2616480" cy="277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76400" y="4016520"/>
            <a:ext cx="1111320" cy="2538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12920" y="2813040"/>
            <a:ext cx="1413000" cy="2318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78000" y="3309840"/>
            <a:ext cx="2872080" cy="255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chema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describe the structure of the XML document, but in much more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constraints on elements and attributes (i.e., date, numeric, list of values, mask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/max repeat 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 and constructs that are not supported in DT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” content sp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define your own types, including base and derived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chema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?xml version="1.0" encoding="UTF-8" ?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chema xmlns:x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www.w3.org/2001/XMLSchem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n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bound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 =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s:str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bound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attribute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s: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us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chema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209680"/>
            <a:ext cx="83808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4952880"/>
            <a:ext cx="8384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9000" y="4191120"/>
            <a:ext cx="205740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4191120"/>
            <a:ext cx="99072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72000"/>
            <a:ext cx="7621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4191120"/>
            <a:ext cx="121932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3400" y="2233440"/>
            <a:ext cx="925560" cy="1620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19040" y="3784680"/>
            <a:ext cx="6667560" cy="995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9440" y="4108320"/>
            <a:ext cx="2465280" cy="174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89640" y="4097160"/>
            <a:ext cx="1365120" cy="196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34960" y="4768920"/>
            <a:ext cx="960480" cy="1857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Overview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is the same for all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WDI Client GUI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s how, when to do the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done in local database and exported to server database (client standalone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can be done directly in server database (client-server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time execution varies by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Setup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XML DTD or 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from trading partner or industry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created by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EDI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from WDI web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ing WDI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how the data is conve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when this map is used, additional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Runtim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PERFORM TRANSFORM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file on Windows,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Adapter (trigger program) on Windows,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CL on z/OS b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O Panel interface on z/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transaction on C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trigger program on z/OS, C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ERFORM TRANSFORM exampl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TRANSFORM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LE(XMLFI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FILE(EDIFILE)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X(X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FILE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emo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and transformation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(based on DTD) to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to XML (based on sche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becoming very common method of exchanging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structure of the XML document to WDI by importing the DTDs or sch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the XML document using Data Transformation m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the data using PERFORM TRANSFORM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Questions ?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319480" y="1927080"/>
            <a:ext cx="4419360" cy="19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Questions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tz Fahren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fritzf@us.ibm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ollow-u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tz Fahrenback (</a:t>
            </a:r>
            <a:r>
              <a:rPr b="0" lang="en-US" sz="1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fritzf@us.ibm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ynn Clark (</a:t>
            </a:r>
            <a:r>
              <a:rPr b="0" lang="en-US" sz="1800" spc="-1" strike="noStrike" u="sng">
                <a:solidFill>
                  <a:srgbClr val="c0c0c0"/>
                </a:solidFill>
                <a:uFillTx/>
                <a:latin typeface="Arial"/>
                <a:hlinkClick r:id="rId2"/>
              </a:rPr>
              <a:t>emd19@us.ibm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c0c0"/>
                </a:solidFill>
                <a:uFillTx/>
                <a:latin typeface="Arial"/>
                <a:hlinkClick r:id="rId3"/>
              </a:rPr>
              <a:t>http://www.ibm.com/websphere/data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35320" y="2466720"/>
            <a:ext cx="43862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 for attending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05160" y="2511360"/>
            <a:ext cx="42256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een shots from 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a DTD or schem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855800" y="1776240"/>
          <a:ext cx="58626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5800" y="1776240"/>
                    <a:ext cx="58626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a DTD or schem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112760" y="2320920"/>
          <a:ext cx="7348680" cy="28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2320920"/>
                    <a:ext cx="73486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fining Sender and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eceiver element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297080" y="1776240"/>
          <a:ext cx="69786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7080" y="1776240"/>
                    <a:ext cx="69786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EDI Standar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854360" y="1776240"/>
          <a:ext cx="586404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4360" y="1776240"/>
                    <a:ext cx="586404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EDI Standar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677960" y="1776240"/>
          <a:ext cx="621828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7960" y="1776240"/>
                    <a:ext cx="621828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 to XML ma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811160" y="1776240"/>
          <a:ext cx="595008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1160" y="1776240"/>
                    <a:ext cx="595008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eating a Ru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501920" y="1776240"/>
          <a:ext cx="6570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1920" y="1776240"/>
                    <a:ext cx="6570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XML basic concepts (XML 1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steps to map/translate to or from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mapping and translation of an EDI transaction to an XML sch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Inpu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XML-EDI transl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387520" y="1776240"/>
          <a:ext cx="4797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7520" y="1776240"/>
                    <a:ext cx="4797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Output (XML-EDI)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put (EDI-XML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401920" y="1776240"/>
          <a:ext cx="4770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1920" y="1776240"/>
                    <a:ext cx="4770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Outpu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EDI-XML transl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406600" y="1776240"/>
          <a:ext cx="47610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6600" y="1776240"/>
                    <a:ext cx="47610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is XML 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is eXtensible Markup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oming a common way of exchanging data with other parties an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3C “Recommend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and related information at: http://www.w3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ly a meta-markup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define semantics or t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es rules for defining and using tags to structur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efine the tag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parison to HTM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a subset of S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-20 rule: eliminates some of the more complex but rarely used SGML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 is also derived from S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has a similar look and f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 - many important differences between XML, 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vs. HTM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087560" y="2058840"/>
          <a:ext cx="7135560" cy="3672000"/>
        </p:xfrm>
        <a:graphic>
          <a:graphicData uri="http://schemas.openxmlformats.org/drawingml/2006/table">
            <a:tbl>
              <a:tblPr/>
              <a:tblGrid>
                <a:gridCol w="3555720"/>
                <a:gridCol w="357984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are defined by a specific  implement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es the ta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define the structure and meaning of the da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define layout and formatting of the da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ments and attributes ARE case sensitiv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ments and attributes are NOT case sensitiv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start tags MUST have a corresponding end ta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 tags do not have end ta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MUST be nested properl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ssing does not always enforce nesting hierarch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2307600" y="133020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9600" y="1366920"/>
            <a:ext cx="11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34120" y="1440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2400" y="545760"/>
            <a:ext cx="8339040" cy="51325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648504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!DOCTYPE personnel SYSTEM "personal.dtd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 id="Big.Boss"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&lt;family&gt;Boss&lt;/family&gt; &lt;given&gt;Big&lt;/given&gt;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mail&gt;chief@foo.com&lt;/emai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link subordinates="one.worker two.worker three.worker four.worker five.worke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 id="one.worker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&lt;family&gt;Worker&lt;/family&gt; &lt;given&gt;One&lt;/given&gt;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mail&gt;one@foo.com&lt;/emai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link manager="Big.Boss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1828800"/>
            <a:ext cx="83844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2286000"/>
            <a:ext cx="8384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057040" y="21337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1828800"/>
            <a:ext cx="98748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11480" y="1873080"/>
            <a:ext cx="914400" cy="1828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11760" y="1886040"/>
            <a:ext cx="1099800" cy="174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7080" y="2233440"/>
            <a:ext cx="890640" cy="1857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198160" y="2049480"/>
            <a:ext cx="382680" cy="162000"/>
          </a:xfrm>
          <a:prstGeom prst="line">
            <a:avLst/>
          </a:prstGeom>
          <a:ln w="158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4864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0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DOCTYPE personnel SYSTEM "personal.dt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 id="Big.Boss"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&gt;&lt;family&gt;Boss&lt;/family&gt; &lt;given&gt;Big&lt;/given&gt;&lt;/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mail&gt;chief@foo.com&lt;/emai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subordinates="one.worker two.worker three.worker four.worker five.work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 id="one.worke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&gt;&lt;family&gt;Worker&lt;/family&gt; &lt;given&gt;One&lt;/given&gt;&lt;/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mail&gt;one@foo.com&lt;/emai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manager="Big.Boss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2286000"/>
            <a:ext cx="91440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5486400"/>
            <a:ext cx="99036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514600"/>
            <a:ext cx="0" cy="3048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6080" y="2292480"/>
            <a:ext cx="1168200" cy="2538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6080" y="5405400"/>
            <a:ext cx="1238040" cy="2541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226880" y="2535120"/>
            <a:ext cx="11160" cy="2846520"/>
          </a:xfrm>
          <a:prstGeom prst="line">
            <a:avLst/>
          </a:prstGeom>
          <a:ln w="158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TD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TD describes the structure of the XML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ef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element (tag) that is per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ttributes allowed for each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ent model of each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specify nested elements, either as a sequence or cho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may be parsed character data (#PCDAT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Fritz F</cp:lastModifiedBy>
  <dcterms:modified xsi:type="dcterms:W3CDTF">2004-08-21T13:41:10Z</dcterms:modified>
  <cp:revision>874</cp:revision>
  <dc:subject/>
  <dc:title>IBM Software Group</dc:title>
</cp:coreProperties>
</file>